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25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5C6E8DD-F7D4-472B-9EF5-C9AAF248A5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F7EBF9-A7B7-4CFF-85FF-0D80463552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556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24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676-94A2-4F67-A2E3-B1944EDF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9A5-7EB4-45B3-90A1-D7D7DF40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311-6B7A-4F9A-8EB0-60E353D8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550-2236-460A-99F3-B20F6A1B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6E0-2883-4204-B7B2-5B342D02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621-FD8D-447E-8FFA-24201AEE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66D6-ABD4-40D2-8A37-34AE3685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AD7-A2E4-4DC1-9E29-F20F5DE4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DFA-7332-45CF-9914-FDDB0924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45A-89F0-4CD1-AF83-A2C5C740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BBF-1F13-426F-9B37-CECC2484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441-8C65-431A-8675-9E80DCFA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3749-CB12-4A08-9915-48EA8C63230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7827-FCC4-4A89-A7C4-38F29C9F9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Анализ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исполнения бюджета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городского округа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г. Переславля-Залесского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в 2012 году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6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5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FED2-12C6-423F-9D03-1400FF02A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360" y="312480"/>
            <a:ext cx="8423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рочие неналоговые д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0" y="1628640"/>
          <a:ext cx="9144000" cy="52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Заголовок 1"/>
          <p:cNvSpPr/>
          <p:nvPr/>
        </p:nvSpPr>
        <p:spPr>
          <a:xfrm>
            <a:off x="395280" y="912960"/>
            <a:ext cx="83534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тупление прочих неналоговых доходов в разрезе администраторов доходов в 2012 году,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24000" y="1989000"/>
            <a:ext cx="81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ыс. ру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F5F5-3BD1-4A1F-A7E3-419955AB4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8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3567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ПРЕДОСТАВЛЕНИЕ ЛЬГОТ </a:t>
            </a:r>
            <a:br>
              <a:rPr sz="1800"/>
            </a:b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ОРГАНАМИ МЕСТНОГО САМОУПРАВЛЕНИЯ </a:t>
            </a:r>
            <a:br>
              <a:rPr sz="1800"/>
            </a:b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в 2012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8c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ечение отчетного периода по решениям Городской Думы были предоставлены следующие льготы по налоговым и неналоговым доходам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освобождение от перечисления  арендной платы, полученной от сдачи в аренду муниципального имущества в размере 4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,77млн. руб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., в т.ч.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АО «Ярославская региональная сетевая компания» -4,4 млн. руб. (средства направлены на капремонт арендуемых электрических сетей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АО «Водоканал» – 0,15 млн. руб. (средства направлены на капремонт водопроводной линии к д/с №8 «Родничок»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ОО «Жизнь в Переславле» -0,22 млн. руб. (средства направлены на капремонт нежилых помещений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по земельному налогу в размере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0,6 млн. руб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., в т.ч.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физические лица (поддержка малообеспеченных и социально не защищенных категорий граждан) – 0,6 млн. руб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о налогу на имущество физических лиц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0,12 млн. руб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., в т.ч.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 многодетные семьи – 0,08 млн. руб. (поддержка малообеспеченных и социально не защищенных категорий граждан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 одинокие матери – 0,04 млн. руб. (поддержка малообеспеченных и социально не защищенных категорий граждан);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общая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сумма выпадающих доходов из городского бюджета в 2012 году составила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5,49 млн. руб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 сравнению с аналогичным периодом прошлого года сумма льгот сократилась на </a:t>
            </a: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0,35 млн. руб.</a:t>
            </a:r>
            <a:r>
              <a:rPr b="0" lang="ru-RU" sz="13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 сче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введены льготы по перечислению арендной платы, полученной от сдачи в аренду муниципального имущества (в т.ч капремонт водопроводной линии к д/с №8 «Родничок») для ОАО «Водоканал» (+0,15 млн. руб.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введены льготы по перечислению арендной платы, полученной от сдачи в аренду муниципального имущества  (в т.ч капремонт арендуемых электрических сетей) для ОАО «ЯСК» (+1 млн. руб.) и на капремонт нежилых помещений для ООО «Жизнь в Переславле» (+0,12 млн. руб.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сокращения льгот по земельному налогу предоставленных владельцам индивидуальных гаражей или приобретенных (предоставленных) под строительство гаражей, гаражные (гаражно-строительные) кооперативы (- 0,9 млн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- сокращение льгот по налогу на имущества физических лиц (-0,02 млн. руб.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1"/>
          <p:cNvSpPr/>
          <p:nvPr/>
        </p:nvSpPr>
        <p:spPr>
          <a:xfrm>
            <a:off x="6659640" y="6381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7AA6-FEC4-479D-9951-94DCCFAB9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6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4880" y="5461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Недоимка в городской бюджет в 2012 году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8028000" y="47628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Myriad Pro"/>
              </a:rPr>
              <a:t>  </a:t>
            </a:r>
            <a:r>
              <a:rPr b="1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10"/>
          <p:cNvGraphicFramePr/>
          <p:nvPr/>
        </p:nvGraphicFramePr>
        <p:xfrm>
          <a:off x="1440" y="946080"/>
          <a:ext cx="9139320" cy="591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46080"/>
                    <a:ext cx="913932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12"/>
          <p:cNvSpPr/>
          <p:nvPr/>
        </p:nvSpPr>
        <p:spPr>
          <a:xfrm>
            <a:off x="7666200" y="692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692360" y="5734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ДФ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059280" y="573408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НВ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427640" y="5734080"/>
            <a:ext cx="11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лог на имущ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5940360" y="573408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емельный н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7451640" y="5734080"/>
            <a:ext cx="15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долженность по отмененным налог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AD94-6EAE-453D-A013-32D3083E6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13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7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Исполнение расходов бюджета городского округа за 201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2590-8A38-43C1-A5E6-7662E21D2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Объект 6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35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труктура расходов бюджета городского округа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.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ереславля-Залесского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за 2012 год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Объект 4"/>
          <p:cNvGraphicFramePr/>
          <p:nvPr/>
        </p:nvGraphicFramePr>
        <p:xfrm>
          <a:off x="561960" y="1343160"/>
          <a:ext cx="8204040" cy="51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343160"/>
                    <a:ext cx="8204040" cy="51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BA2D-B0F6-4B10-89FF-3109DC0E3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88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Исполнение расходной части бюджета в разрезе функциональной классификации расходов </a:t>
            </a: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за 2011 – 2012 годы (млн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Объект 4"/>
          <p:cNvGraphicFramePr/>
          <p:nvPr/>
        </p:nvGraphicFramePr>
        <p:xfrm>
          <a:off x="334800" y="1700280"/>
          <a:ext cx="8066160" cy="45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700280"/>
                    <a:ext cx="806616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8BD4-008F-40F3-9A9F-210D9A989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35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Расходы бюджета городского округа на социальную сферу за 2011-2012 годы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Объект 5"/>
          <p:cNvGraphicFramePr/>
          <p:nvPr/>
        </p:nvGraphicFramePr>
        <p:xfrm>
          <a:off x="133200" y="1871640"/>
          <a:ext cx="5645160" cy="439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1871640"/>
                    <a:ext cx="5645160" cy="43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43640" y="1196640"/>
            <a:ext cx="252576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идно из представленной диаграммы основными по значению  являются сферы на социальную политику, образование, физическую культуру и спорт, культу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ьный вес расходов на социальную сферу в 2012 году составил  756,8 млн. руб. или 68,7 % от общих расходов бюджета городского округа на 2012год, что на 83,5 млн. руб. больше чем в 2011 году (из них образование +63,3млн.руб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политика +8,1 млн. руб., физкультура и спорт +8,2млн руб., культура +3,9 млн. руб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DD19-F7DC-48D3-AC47-57D910FB9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Направление по видам расходов бюджета городского округа за 2012 год (млн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8177-1B97-409F-A49F-D31E5BFE4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Диаграмма 1"/>
          <p:cNvGraphicFramePr/>
          <p:nvPr/>
        </p:nvGraphicFramePr>
        <p:xfrm>
          <a:off x="415800" y="1351080"/>
          <a:ext cx="818856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351080"/>
                    <a:ext cx="818856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  <a:ea typeface="Times New Roman"/>
              </a:rPr>
              <a:t>Приоритетные статьи расходов бюджета городского округа за 201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B14E-2369-4DBB-8B0C-34A75474C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Схема 4" descr=""/>
          <p:cNvPicPr/>
          <p:nvPr/>
        </p:nvPicPr>
        <p:blipFill>
          <a:blip r:embed="rId1"/>
          <a:stretch/>
        </p:blipFill>
        <p:spPr>
          <a:xfrm>
            <a:off x="378000" y="1884240"/>
            <a:ext cx="8388000" cy="4383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304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редняя заработная плата работников бюджетной сферы в 2011 и 2012 году (тыс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Объект 5"/>
          <p:cNvGraphicFramePr/>
          <p:nvPr/>
        </p:nvGraphicFramePr>
        <p:xfrm>
          <a:off x="468360" y="1484280"/>
          <a:ext cx="804708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04708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862A-D09E-4D7C-8FE9-3E0E455B9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0"/>
          <p:cNvSpPr/>
          <p:nvPr/>
        </p:nvSpPr>
        <p:spPr>
          <a:xfrm>
            <a:off x="179280" y="1052640"/>
            <a:ext cx="8713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8572680" y="39204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-36360" y="11462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доходов бюджета городского округа в 2011-2012 гг.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:\work\09.10.12 143672 - Презентация МИНФИН - PPT\out\shadow-L2.png"/>
          <p:cNvPicPr/>
          <p:nvPr/>
        </p:nvPicPr>
        <p:blipFill>
          <a:blip r:embed="rId1"/>
          <a:stretch/>
        </p:blipFill>
        <p:spPr>
          <a:xfrm>
            <a:off x="6013440" y="3841920"/>
            <a:ext cx="257040" cy="26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Object 17"/>
          <p:cNvGraphicFramePr/>
          <p:nvPr/>
        </p:nvGraphicFramePr>
        <p:xfrm>
          <a:off x="0" y="1793880"/>
          <a:ext cx="9156600" cy="506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93880"/>
                    <a:ext cx="91566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Прямоугольник 10"/>
          <p:cNvSpPr/>
          <p:nvPr/>
        </p:nvSpPr>
        <p:spPr>
          <a:xfrm>
            <a:off x="28440" y="404640"/>
            <a:ext cx="889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оходы бюджета городского окру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г. Переславля-Залесского  за 2012 год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8101080" y="580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лн. ру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3792600" y="16444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090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8"/>
          <p:cNvSpPr/>
          <p:nvPr/>
        </p:nvSpPr>
        <p:spPr>
          <a:xfrm rot="5400000">
            <a:off x="3916800" y="1472040"/>
            <a:ext cx="360360" cy="5099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1920 h 5099400"/>
              <a:gd name="textAreaBottom" fmla="*/ 4947480 h 509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0"/>
                  <a:pt x="10800" y="2059"/>
                </a:cubicBezTo>
                <a:lnTo>
                  <a:pt x="10800" y="8741"/>
                </a:lnTo>
                <a:cubicBezTo>
                  <a:pt x="10800" y="9771"/>
                  <a:pt x="5400" y="10800"/>
                  <a:pt x="0" y="10800"/>
                </a:cubicBezTo>
                <a:cubicBezTo>
                  <a:pt x="5400" y="10800"/>
                  <a:pt x="10800" y="11830"/>
                  <a:pt x="10800" y="12859"/>
                </a:cubicBezTo>
                <a:lnTo>
                  <a:pt x="10800" y="19541"/>
                </a:lnTo>
                <a:cubicBezTo>
                  <a:pt x="10800" y="2057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 rot="5400000">
            <a:off x="4091400" y="-700920"/>
            <a:ext cx="431640" cy="5954760"/>
          </a:xfrm>
          <a:custGeom>
            <a:avLst/>
            <a:gdLst>
              <a:gd name="textAreaLeft" fmla="*/ 275760 w 431640"/>
              <a:gd name="textAreaRight" fmla="*/ 432000 w 431640"/>
              <a:gd name="textAreaTop" fmla="*/ 159480 h 5954760"/>
              <a:gd name="textAreaBottom" fmla="*/ 5795280 h 595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5"/>
                  <a:pt x="10800" y="1850"/>
                </a:cubicBezTo>
                <a:lnTo>
                  <a:pt x="10800" y="8950"/>
                </a:lnTo>
                <a:cubicBezTo>
                  <a:pt x="10800" y="9875"/>
                  <a:pt x="5400" y="10800"/>
                  <a:pt x="0" y="10800"/>
                </a:cubicBezTo>
                <a:cubicBezTo>
                  <a:pt x="5400" y="10800"/>
                  <a:pt x="10800" y="11725"/>
                  <a:pt x="10800" y="12650"/>
                </a:cubicBezTo>
                <a:lnTo>
                  <a:pt x="10800" y="19750"/>
                </a:lnTo>
                <a:cubicBezTo>
                  <a:pt x="10800" y="206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1"/>
          <p:cNvSpPr/>
          <p:nvPr/>
        </p:nvSpPr>
        <p:spPr>
          <a:xfrm>
            <a:off x="3772080" y="354636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03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FE2F-75EF-49B7-A96C-98900BFC4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6" descr=""/>
          <p:cNvPicPr/>
          <p:nvPr/>
        </p:nvPicPr>
        <p:blipFill>
          <a:blip r:embed="rId4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7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1440" y="475920"/>
            <a:ext cx="87645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инамика структуры программных и непрограммных расходов бюджета городского округа г. Переславля-Залесского за 2011 и 2012 годы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Диаграмма 4"/>
          <p:cNvGraphicFramePr/>
          <p:nvPr/>
        </p:nvGraphicFramePr>
        <p:xfrm>
          <a:off x="417600" y="1722600"/>
          <a:ext cx="8331120" cy="456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722600"/>
                    <a:ext cx="83311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85D4-889C-498E-8068-E3DE3D82C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Исполнение бюджета по действующим программам за 2012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Диаграмма 4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2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1D42-3386-46E2-8CD0-CA6BB007E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6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остояние кредиторской задолженности на 01.01.2012  года и на 01.01.2013 года ( 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710D-7734-451D-8F45-23A444CC2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Диаграмма 3"/>
          <p:cNvGraphicFramePr/>
          <p:nvPr/>
        </p:nvGraphicFramePr>
        <p:xfrm>
          <a:off x="488880" y="1290600"/>
          <a:ext cx="8310600" cy="492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290600"/>
                    <a:ext cx="831060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000" y="49032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Размер дефицита, сложившийся по исполнению бюджета городского округа за 2011 и 2012 годы (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E4FA-3F5C-4F9E-8124-3C8ECF7F0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Диаграмма 3"/>
          <p:cNvGraphicFramePr/>
          <p:nvPr/>
        </p:nvGraphicFramePr>
        <p:xfrm>
          <a:off x="900000" y="1700280"/>
          <a:ext cx="7398000" cy="47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39800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36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труктура бюджета городского округа г. Переславля-Залесского за 2012 год ( млн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70F9-3533-4EE1-AF6B-64011CA19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Диаграмма 3"/>
          <p:cNvGraphicFramePr/>
          <p:nvPr/>
        </p:nvGraphicFramePr>
        <p:xfrm>
          <a:off x="324000" y="1413000"/>
          <a:ext cx="8499240" cy="446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13000"/>
                    <a:ext cx="8499240" cy="44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5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СПАСИБО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138-0EBA-4661-BE27-C637C9239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6" descr=""/>
          <p:cNvPicPr/>
          <p:nvPr/>
        </p:nvPicPr>
        <p:blipFill>
          <a:blip r:embed="rId1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4600" y="512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Плановое поступление финансовых средств в бюджет городского округа г. Переславля-Залесского за 201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-50760" y="1763640"/>
            <a:ext cx="9245520" cy="51418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/>
          <p:cNvSpPr/>
          <p:nvPr/>
        </p:nvSpPr>
        <p:spPr>
          <a:xfrm rot="5400000">
            <a:off x="867960" y="2046240"/>
            <a:ext cx="358560" cy="431640"/>
          </a:xfrm>
          <a:custGeom>
            <a:avLst/>
            <a:gdLst>
              <a:gd name="textAreaLeft" fmla="*/ 228960 w 358560"/>
              <a:gd name="textAreaRight" fmla="*/ 358560 w 358560"/>
              <a:gd name="textAreaTop" fmla="*/ 9360 h 431640"/>
              <a:gd name="textAreaBottom" fmla="*/ 4222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1"/>
                  <a:pt x="10800" y="1501"/>
                </a:cubicBezTo>
                <a:lnTo>
                  <a:pt x="10800" y="9299"/>
                </a:lnTo>
                <a:cubicBezTo>
                  <a:pt x="10800" y="10050"/>
                  <a:pt x="5400" y="10800"/>
                  <a:pt x="0" y="10800"/>
                </a:cubicBezTo>
                <a:cubicBezTo>
                  <a:pt x="5400" y="10800"/>
                  <a:pt x="10800" y="11551"/>
                  <a:pt x="10800" y="12301"/>
                </a:cubicBezTo>
                <a:lnTo>
                  <a:pt x="10800" y="20099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5480" y="17398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169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 rot="5400000">
            <a:off x="2496960" y="3749400"/>
            <a:ext cx="431640" cy="432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162240" y="1916280"/>
            <a:ext cx="792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52600" y="34304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1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 rot="5400000">
            <a:off x="3341520" y="3608280"/>
            <a:ext cx="432000" cy="432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147840" y="324792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34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 rot="5400000">
            <a:off x="4233600" y="3787920"/>
            <a:ext cx="469800" cy="431640"/>
          </a:xfrm>
          <a:custGeom>
            <a:avLst/>
            <a:gdLst>
              <a:gd name="textAreaLeft" fmla="*/ 300240 w 469800"/>
              <a:gd name="textAreaRight" fmla="*/ 470160 w 46980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729"/>
                </a:lnTo>
                <a:cubicBezTo>
                  <a:pt x="10800" y="8629"/>
                  <a:pt x="5400" y="9529"/>
                  <a:pt x="0" y="9529"/>
                </a:cubicBezTo>
                <a:cubicBezTo>
                  <a:pt x="5400" y="9529"/>
                  <a:pt x="10800" y="10429"/>
                  <a:pt x="10800" y="113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113360" y="346068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19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 rot="5400000">
            <a:off x="5652720" y="3765240"/>
            <a:ext cx="574920" cy="432000"/>
          </a:xfrm>
          <a:custGeom>
            <a:avLst/>
            <a:gdLst>
              <a:gd name="textAreaLeft" fmla="*/ 367200 w 574920"/>
              <a:gd name="textAreaRight" fmla="*/ 575280 w 5749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5640480" y="33004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6948360" y="98100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7596360" y="1450800"/>
            <a:ext cx="11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738360" y="3809880"/>
            <a:ext cx="3934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18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1030680" y="3059280"/>
            <a:ext cx="3934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87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1603440" y="3000240"/>
            <a:ext cx="393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1835280" y="2766960"/>
            <a:ext cx="393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15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2438640" y="3884760"/>
            <a:ext cx="393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2679840" y="3863880"/>
            <a:ext cx="393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3276720" y="3863880"/>
            <a:ext cx="3934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 rot="5400000">
            <a:off x="3620160" y="3847320"/>
            <a:ext cx="393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4115160" y="4325760"/>
            <a:ext cx="393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 rot="5400000">
            <a:off x="4375080" y="4066920"/>
            <a:ext cx="3934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 rot="5400000">
            <a:off x="6076080" y="4174560"/>
            <a:ext cx="39348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5727960" y="4334040"/>
            <a:ext cx="3934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 rot="5400000">
            <a:off x="1760760" y="1910520"/>
            <a:ext cx="287280" cy="431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1596960" y="16192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0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6556320" y="2262240"/>
            <a:ext cx="244800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сего финансовых средств на 01.01.12 г.:  448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сего финансовых средств на 31.12.12 г.: 673,1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Общее изменение: +22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3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BFED-929D-4706-90C3-B2A0DB75C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68040" bIns="42480" anchor="t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Динамика налоговых и неналоговых доходов бюджета городского округа г. Переславля-Залесского за 2011–2012 годы, млн.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1440" y="1413000"/>
          <a:ext cx="435456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13000"/>
                    <a:ext cx="435456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AutoShape 5"/>
          <p:cNvSpPr/>
          <p:nvPr/>
        </p:nvSpPr>
        <p:spPr>
          <a:xfrm>
            <a:off x="1012680" y="1655640"/>
            <a:ext cx="1055880" cy="507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832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820960" y="1658880"/>
            <a:ext cx="10317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832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028960" y="4220640"/>
            <a:ext cx="792000" cy="5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1957320" y="318780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2028960" y="3917880"/>
            <a:ext cx="79200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-1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2065320" y="2922480"/>
            <a:ext cx="647640" cy="289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+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2065320" y="1655640"/>
            <a:ext cx="865080" cy="35892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-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2028960" y="276876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8"/>
          <p:cNvSpPr/>
          <p:nvPr/>
        </p:nvSpPr>
        <p:spPr>
          <a:xfrm>
            <a:off x="2065320" y="2479680"/>
            <a:ext cx="647640" cy="289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+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00F2-62B0-415D-ABB8-5C7F413E6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6" descr=""/>
          <p:cNvPicPr/>
          <p:nvPr/>
        </p:nvPicPr>
        <p:blipFill>
          <a:blip r:embed="rId4"/>
          <a:stretch/>
        </p:blipFill>
        <p:spPr>
          <a:xfrm>
            <a:off x="3544920" y="1557360"/>
            <a:ext cx="6140520" cy="51116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6"/>
          <p:cNvSpPr/>
          <p:nvPr/>
        </p:nvSpPr>
        <p:spPr>
          <a:xfrm>
            <a:off x="6595920" y="39942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+24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V="1">
            <a:off x="6529320" y="4221000"/>
            <a:ext cx="814320" cy="100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6529320" y="3621240"/>
            <a:ext cx="801720" cy="5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624720" y="33148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4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788080" y="3073320"/>
            <a:ext cx="3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7759800" y="307980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759800" y="27874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6545160" y="3009600"/>
            <a:ext cx="785880" cy="44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6659640" y="27068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3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5486400" y="2163600"/>
            <a:ext cx="915840" cy="501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468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756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7442280" y="2163600"/>
            <a:ext cx="936720" cy="505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468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756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642000" y="2111400"/>
            <a:ext cx="576360" cy="360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8320" bIns="42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Структура собственных доходов бюджета городского округа г. Переславля-Залесского 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за 2012 год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ject 7" descr=""/>
          <p:cNvPicPr/>
          <p:nvPr/>
        </p:nvPicPr>
        <p:blipFill>
          <a:blip r:embed="rId1"/>
          <a:stretch/>
        </p:blipFill>
        <p:spPr>
          <a:xfrm>
            <a:off x="4680" y="1765440"/>
            <a:ext cx="9147240" cy="51307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6" descr=""/>
          <p:cNvPicPr/>
          <p:nvPr/>
        </p:nvPicPr>
        <p:blipFill>
          <a:blip r:embed="rId2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BCBE-5C3F-4557-B351-F8422F9A5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E:\work\09.10.12 143672 - Презентация МИНФИН - PPT\out\shadow-L2.png"/>
          <p:cNvPicPr/>
          <p:nvPr/>
        </p:nvPicPr>
        <p:blipFill>
          <a:blip r:embed="rId1"/>
          <a:stretch/>
        </p:blipFill>
        <p:spPr>
          <a:xfrm>
            <a:off x="6021360" y="1000080"/>
            <a:ext cx="257040" cy="26431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0"/>
          <p:cNvSpPr/>
          <p:nvPr/>
        </p:nvSpPr>
        <p:spPr>
          <a:xfrm>
            <a:off x="179280" y="1268280"/>
            <a:ext cx="856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1042920" y="1268280"/>
            <a:ext cx="6913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поступлений налога на доходы физических лиц в январе – декабре 2012 г. в сравнении с 2011 г.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8572680" y="39204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E:\work\09.10.12 143672 - Презентация МИНФИН - PPT\out\shadow-L2.png"/>
          <p:cNvPicPr/>
          <p:nvPr/>
        </p:nvPicPr>
        <p:blipFill>
          <a:blip r:embed="rId2"/>
          <a:stretch/>
        </p:blipFill>
        <p:spPr>
          <a:xfrm>
            <a:off x="6013440" y="3841920"/>
            <a:ext cx="257040" cy="26431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0"/>
          <p:cNvSpPr/>
          <p:nvPr/>
        </p:nvSpPr>
        <p:spPr>
          <a:xfrm>
            <a:off x="196920" y="47628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Налог на доходы физических лиц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8101080" y="47628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yriad Pro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1"/>
          <p:cNvGraphicFramePr/>
          <p:nvPr/>
        </p:nvGraphicFramePr>
        <p:xfrm>
          <a:off x="0" y="2036880"/>
          <a:ext cx="9144000" cy="482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36880"/>
                    <a:ext cx="914400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71B4-2BDC-4D2B-9C9A-B6D2934BC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6" descr=""/>
          <p:cNvPicPr/>
          <p:nvPr/>
        </p:nvPicPr>
        <p:blipFill>
          <a:blip r:embed="rId5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2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ЕНВД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395280" y="1052640"/>
            <a:ext cx="8280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поступлений ЕНВД в разрезе видов экономической деятельности в 2012 г. в сравнении с 2011 г.,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55640" y="1557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лн. ру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8028000" y="404640"/>
            <a:ext cx="571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2"/>
          <p:cNvGraphicFramePr/>
          <p:nvPr/>
        </p:nvGraphicFramePr>
        <p:xfrm>
          <a:off x="0" y="1905120"/>
          <a:ext cx="9010800" cy="504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0108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F0C0-D0E7-4193-AF8E-C775902CA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7"/>
          <p:cNvSpPr/>
          <p:nvPr/>
        </p:nvSpPr>
        <p:spPr>
          <a:xfrm>
            <a:off x="179280" y="115920"/>
            <a:ext cx="336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0"/>
          <p:cNvSpPr/>
          <p:nvPr/>
        </p:nvSpPr>
        <p:spPr>
          <a:xfrm>
            <a:off x="250920" y="981000"/>
            <a:ext cx="864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219240" y="1444680"/>
            <a:ext cx="86421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поступлений доходов от использования земельных ресурсов в 2012 г. в сравнении с 2011 г.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0"/>
          <p:cNvSpPr/>
          <p:nvPr/>
        </p:nvSpPr>
        <p:spPr>
          <a:xfrm>
            <a:off x="220680" y="476280"/>
            <a:ext cx="864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оходы от использования земельных ресур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в 201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Заголовок 1"/>
          <p:cNvSpPr/>
          <p:nvPr/>
        </p:nvSpPr>
        <p:spPr>
          <a:xfrm>
            <a:off x="8244000" y="33336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21"/>
          <p:cNvGraphicFramePr/>
          <p:nvPr/>
        </p:nvGraphicFramePr>
        <p:xfrm>
          <a:off x="0" y="2205000"/>
          <a:ext cx="9144000" cy="46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5000"/>
                    <a:ext cx="91440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2B8F-1735-4D82-BCA9-0DFC80A91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9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05228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ка поступлений доходов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 использования имущества в 2012 г. в сравнении с 2011 г.,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0"/>
          <p:cNvSpPr/>
          <p:nvPr/>
        </p:nvSpPr>
        <p:spPr>
          <a:xfrm>
            <a:off x="179280" y="476280"/>
            <a:ext cx="87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Доходы от использования имущества в 2012 году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8388360" y="333360"/>
            <a:ext cx="571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Myriad Pro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23"/>
          <p:cNvGraphicFramePr/>
          <p:nvPr/>
        </p:nvGraphicFramePr>
        <p:xfrm>
          <a:off x="0" y="1844640"/>
          <a:ext cx="91440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91440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24"/>
          <p:cNvSpPr/>
          <p:nvPr/>
        </p:nvSpPr>
        <p:spPr>
          <a:xfrm>
            <a:off x="395280" y="24210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лн. ру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769F-9F10-4A70-94B6-E605E0EC4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7"/>
          <p:cNvSpPr/>
          <p:nvPr/>
        </p:nvSpPr>
        <p:spPr>
          <a:xfrm>
            <a:off x="468360" y="115920"/>
            <a:ext cx="26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ение финан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6" descr=""/>
          <p:cNvPicPr/>
          <p:nvPr/>
        </p:nvPicPr>
        <p:blipFill>
          <a:blip r:embed="rId3"/>
          <a:stretch/>
        </p:blipFill>
        <p:spPr>
          <a:xfrm>
            <a:off x="108000" y="79200"/>
            <a:ext cx="326880" cy="46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menov</dc:creator>
  <dc:description/>
  <dc:language>en-US</dc:language>
  <cp:lastModifiedBy>user</cp:lastModifiedBy>
  <cp:lastPrinted>2013-04-23T06:38:01Z</cp:lastPrinted>
  <dcterms:modified xsi:type="dcterms:W3CDTF">2013-08-26T09:29:31Z</dcterms:modified>
  <cp:revision>788</cp:revision>
  <dc:subject/>
  <dc:title>Налоговые и неналоговые доходы</dc:title>
</cp:coreProperties>
</file>