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25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6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F87F4C-3BA1-4922-A155-0CA06324F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876DA6-2993-4930-80BC-3FC6B722AF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88739D-D83B-42F3-83A6-680D25588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9080" y="7556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8F923B-8EB8-4A6B-AF85-958381531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9080" y="7556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A3D-1980-4444-A2EA-E8C24BF4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2A9-AE5A-4696-B481-41618F4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BC7-49B8-4221-9496-8F31F937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8BB-EEDC-4ABB-8479-2420D3CC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ED6-B72F-477A-BD96-8955F10B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DBD-2E53-4C7E-A96B-BA5B444D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C05-D453-4076-AEB9-EC1571A5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242-DD5B-48E0-89DE-7A38A599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E6A-9EFA-4D51-B280-7FEFA322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72B-2A9B-4BFA-BC7F-5ECEF1F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0F1-8F4C-4715-B606-1E3A032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E41-6702-4D1F-91BB-4FCD405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9EF3-6A7C-4B39-B68C-6F993F6140A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B62-72F2-4B7B-8A05-2F6B34D2F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Анализ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полнения бюджета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ородского округа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. Переславля-Залесского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 2013 году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A337-22D6-4C7A-9C61-119606A16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0"/>
          <p:cNvSpPr/>
          <p:nvPr/>
        </p:nvSpPr>
        <p:spPr>
          <a:xfrm>
            <a:off x="250920" y="981000"/>
            <a:ext cx="86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Заголовок 1"/>
          <p:cNvSpPr/>
          <p:nvPr/>
        </p:nvSpPr>
        <p:spPr>
          <a:xfrm>
            <a:off x="219240" y="1444680"/>
            <a:ext cx="86421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доходов от использования земельных ресурсов в 2013 г. в сравнении с 2012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0"/>
          <p:cNvSpPr/>
          <p:nvPr/>
        </p:nvSpPr>
        <p:spPr>
          <a:xfrm>
            <a:off x="192240" y="531720"/>
            <a:ext cx="86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от использования земельных ресур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 201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8244000" y="33336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21"/>
          <p:cNvGraphicFramePr/>
          <p:nvPr/>
        </p:nvGraphicFramePr>
        <p:xfrm>
          <a:off x="0" y="2174760"/>
          <a:ext cx="91440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74760"/>
                    <a:ext cx="91440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575F-8A51-4677-BFBA-14C0B967D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9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доходов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использования имущества в 2013 г. в сравнении с 2012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179280" y="47628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от использования имущества в 2013 году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8388360" y="33336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3"/>
          <p:cNvGraphicFramePr/>
          <p:nvPr/>
        </p:nvGraphicFramePr>
        <p:xfrm>
          <a:off x="0" y="1844640"/>
          <a:ext cx="91440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24"/>
          <p:cNvSpPr/>
          <p:nvPr/>
        </p:nvSpPr>
        <p:spPr>
          <a:xfrm>
            <a:off x="395280" y="2421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F6FB-1AE2-4CD8-A701-DD320BB64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7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0360" y="312480"/>
            <a:ext cx="8423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очие неналоговые д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0" y="1628640"/>
          <a:ext cx="9153360" cy="519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533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Заголовок 1"/>
          <p:cNvSpPr/>
          <p:nvPr/>
        </p:nvSpPr>
        <p:spPr>
          <a:xfrm>
            <a:off x="395280" y="912960"/>
            <a:ext cx="83534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ление прочих неналоговых доходов в разрезе администраторов доходов в 2013 году,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24000" y="1989000"/>
            <a:ext cx="8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1"/>
          <p:cNvSpPr/>
          <p:nvPr/>
        </p:nvSpPr>
        <p:spPr>
          <a:xfrm>
            <a:off x="673272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C218-B60B-48BE-84CB-13514736D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8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3567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РЕДОСТАВЛЕНИЕ ЛЬГОТ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ОРГАНАМИ МЕСТНОГО САМОУПРАВЛЕНИЯ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в 2013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8c5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ечение отчетного периода по решениям Городской Думы были предоставлены следующие льготы по налоговым и неналоговым доход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освобождение от перечисления  арендной платы, полученной от сдачи в аренду муниципального имущества в размер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4,9 млн. руб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АО «Ярославская региональная сетевая компания» -4,9 млн. руб. (средства направлены на капремонт арендуемых электрических сете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ОО «Жизнь в Переславле» -0,0075 млн. руб. (средства направлены на капремонт нежилых помеще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 земельному налогу в размер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,6 млн. руб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физические лица (поддержка малообеспеченных и социально не защищенных категорий граждан) – 0,6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по налогу на имущество физических лиц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,12 млн. руб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 многодетные семьи – 0,08 млн. руб. (поддержка малообеспеченных и социально не защищенных категорий граждан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 одинокие матери – 0,04 млн. руб. (поддержка малообеспеченных и социально не защищенных категорий граждан);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мма выпадающих доходов из городского бюджета в 2013 году составила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5,63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сравнению с аналогичным периодом прошлого года сумма льгот увеличилась на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,14 млн. руб.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сч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кращения льготы по перечислению арендной платы, полученной от сдачи в аренду муниципального имущества (в т.ч капремонт водопроводной линии к д/с №8 «Родничок») для ОАО «Водоканал» (-0,15 млн. руб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величение льготы по перечислению арендной платы, полученной от сдачи в аренду муниципального имущества (в т.ч. капремонт арендуемых электрических сетей) для ОАО «ЯСК» (+0,5 млн. руб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окращение льготы по перечислению арендной платы, полученной от сдачи в аренду муниципального имущества (в т.ч. капремонт нежилых помещений) для ООО «Жизнь в Переславле» (-0,21 млн. руб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1"/>
          <p:cNvSpPr/>
          <p:nvPr/>
        </p:nvSpPr>
        <p:spPr>
          <a:xfrm>
            <a:off x="694836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75AB-108C-4EB6-B300-723D309BD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4880" y="5461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едоимка в городской бюджет в 2013 году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Заголовок 1"/>
          <p:cNvSpPr/>
          <p:nvPr/>
        </p:nvSpPr>
        <p:spPr>
          <a:xfrm>
            <a:off x="8028000" y="47628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0"/>
          <p:cNvGraphicFramePr/>
          <p:nvPr/>
        </p:nvGraphicFramePr>
        <p:xfrm>
          <a:off x="0" y="942840"/>
          <a:ext cx="918036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42840"/>
                    <a:ext cx="918036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12"/>
          <p:cNvSpPr/>
          <p:nvPr/>
        </p:nvSpPr>
        <p:spPr>
          <a:xfrm>
            <a:off x="7666200" y="692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692360" y="5734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ДФ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3059280" y="57340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НВ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995640" y="573408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 на имущество физ.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5940360" y="573408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емель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7451640" y="5734080"/>
            <a:ext cx="15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олженность по отмененным налог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6795-43D9-4C29-99EF-349B5E309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3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37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расходов бюджета городского округа за 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C79-E3CC-4EAB-95B6-F7BE47FF3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Объект 6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54800" cy="4522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труктура расходов бюджета городского округа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.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ереславля-Залесског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за 2013 год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Объект 4"/>
          <p:cNvGraphicFramePr/>
          <p:nvPr/>
        </p:nvGraphicFramePr>
        <p:xfrm>
          <a:off x="112680" y="1484280"/>
          <a:ext cx="8928000" cy="51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484280"/>
                    <a:ext cx="892800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144-21C8-42F7-9936-F7E6DFA0A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488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расходной части бюджета в разрезе функциональной классификации расходов 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а 2012 – 2013 годы (млн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Объект 4"/>
          <p:cNvGraphicFramePr/>
          <p:nvPr/>
        </p:nvGraphicFramePr>
        <p:xfrm>
          <a:off x="395280" y="1706400"/>
          <a:ext cx="8066160" cy="45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6400"/>
                    <a:ext cx="806616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6CF9-CD42-4CB6-8FCD-1F9023BAB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5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Расходы бюджета городского округа на социальную сферу за 2012-2013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Объект 5"/>
          <p:cNvGraphicFramePr/>
          <p:nvPr/>
        </p:nvGraphicFramePr>
        <p:xfrm>
          <a:off x="684360" y="1700280"/>
          <a:ext cx="563076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5630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43640" y="1196640"/>
            <a:ext cx="25257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но из представленной диаграммы основными по значению  являются сферы: социальная политика, образование, физическая культура и спорт, культу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на социальную сферу в 2013 году составил  818,9 млн. руб. или 71,2 % от общих расходов бюджета городского округа, что на 62,1 млн. руб. больше чем в 2012 году (из них образование +49,7 млн.руб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циальная политика +16 млн.руб., физкультура и спорт -3,2 млн.руб., культура -0,4 млн. руб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3B0-2504-4FA9-A3A7-14E97FA1E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правление по видам расходов бюджета городского округа за 2013 год (млн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3C99-4CB1-4FEB-B7E8-9126DCDD9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Диаграмма 1"/>
          <p:cNvGraphicFramePr/>
          <p:nvPr/>
        </p:nvGraphicFramePr>
        <p:xfrm>
          <a:off x="0" y="1357200"/>
          <a:ext cx="11157120" cy="55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1115712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4"/>
          <p:cNvSpPr/>
          <p:nvPr/>
        </p:nvSpPr>
        <p:spPr>
          <a:xfrm>
            <a:off x="652932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F09A-7DD5-44EC-A007-CCF1920E1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03280" y="476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188c"/>
                </a:solidFill>
                <a:latin typeface="Arial"/>
              </a:rPr>
              <a:t>ПОСТУПЛЕНИЕ НА ТЕРРИТОРИИ ГОРОДСКОГО ОКРУГА НАЛОГОВЫХ И ДРУГИХ ДОХОДОВ ЗА 2013 ГОД В БЮДЖЕТЫ ВСЕХ УРОВ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184400" y="1422360"/>
            <a:ext cx="7056360" cy="1191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ПЕРЕЧИС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7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5"/>
          <p:cNvSpPr/>
          <p:nvPr/>
        </p:nvSpPr>
        <p:spPr>
          <a:xfrm>
            <a:off x="1190520" y="2637000"/>
            <a:ext cx="741600" cy="103644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6"/>
          <p:cNvSpPr/>
          <p:nvPr/>
        </p:nvSpPr>
        <p:spPr>
          <a:xfrm>
            <a:off x="4332240" y="2637000"/>
            <a:ext cx="792360" cy="103644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7"/>
          <p:cNvSpPr/>
          <p:nvPr/>
        </p:nvSpPr>
        <p:spPr>
          <a:xfrm>
            <a:off x="7524720" y="2637000"/>
            <a:ext cx="719280" cy="10364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96840" y="3716280"/>
            <a:ext cx="2592360" cy="580680"/>
          </a:xfrm>
          <a:prstGeom prst="rect">
            <a:avLst/>
          </a:prstGeom>
          <a:solidFill>
            <a:srgbClr val="ff6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ЕНО В Ф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6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3059280" y="3700440"/>
            <a:ext cx="3025440" cy="8240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ЕНО В БЮДЖЕТ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6516720" y="3716280"/>
            <a:ext cx="24480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О В МЕСТНЫЙ БЮДЖ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24"/>
          <p:cNvSpPr/>
          <p:nvPr/>
        </p:nvSpPr>
        <p:spPr>
          <a:xfrm>
            <a:off x="434880" y="4300560"/>
            <a:ext cx="339840" cy="10717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27"/>
          <p:cNvSpPr/>
          <p:nvPr/>
        </p:nvSpPr>
        <p:spPr>
          <a:xfrm>
            <a:off x="2009880" y="4300560"/>
            <a:ext cx="339480" cy="107172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96840" y="5373720"/>
            <a:ext cx="1120680" cy="580680"/>
          </a:xfrm>
          <a:prstGeom prst="rect">
            <a:avLst/>
          </a:prstGeom>
          <a:solidFill>
            <a:srgbClr val="941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5 (16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1492200" y="5373720"/>
            <a:ext cx="1279440" cy="580680"/>
          </a:xfrm>
          <a:prstGeom prst="rect">
            <a:avLst/>
          </a:prstGeom>
          <a:solidFill>
            <a:srgbClr val="941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ИЗ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385 (8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30"/>
          <p:cNvSpPr/>
          <p:nvPr/>
        </p:nvSpPr>
        <p:spPr>
          <a:xfrm>
            <a:off x="3610080" y="4530600"/>
            <a:ext cx="339480" cy="84168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31"/>
          <p:cNvSpPr/>
          <p:nvPr/>
        </p:nvSpPr>
        <p:spPr>
          <a:xfrm>
            <a:off x="5335560" y="4530600"/>
            <a:ext cx="339840" cy="843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2916360" y="5373720"/>
            <a:ext cx="1726920" cy="1067400"/>
          </a:xfrm>
          <a:prstGeom prst="rect">
            <a:avLst/>
          </a:prstGeom>
          <a:solidFill>
            <a:srgbClr val="941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 НА ПРИБЫЛЬ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5 (37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4751280" y="5373720"/>
            <a:ext cx="1405080" cy="824040"/>
          </a:xfrm>
          <a:prstGeom prst="rect">
            <a:avLst/>
          </a:prstGeom>
          <a:solidFill>
            <a:srgbClr val="941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Ф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8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34"/>
          <p:cNvSpPr/>
          <p:nvPr/>
        </p:nvSpPr>
        <p:spPr>
          <a:xfrm>
            <a:off x="6778800" y="4548240"/>
            <a:ext cx="339480" cy="8240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35"/>
          <p:cNvSpPr/>
          <p:nvPr/>
        </p:nvSpPr>
        <p:spPr>
          <a:xfrm>
            <a:off x="8193240" y="4548240"/>
            <a:ext cx="339480" cy="82548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47"/>
          <p:cNvSpPr/>
          <p:nvPr/>
        </p:nvSpPr>
        <p:spPr>
          <a:xfrm>
            <a:off x="6372360" y="5373720"/>
            <a:ext cx="1152360" cy="824040"/>
          </a:xfrm>
          <a:prstGeom prst="rect">
            <a:avLst/>
          </a:prstGeom>
          <a:solidFill>
            <a:srgbClr val="941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Ф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8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48"/>
          <p:cNvSpPr/>
          <p:nvPr/>
        </p:nvSpPr>
        <p:spPr>
          <a:xfrm>
            <a:off x="7596360" y="5373720"/>
            <a:ext cx="1439640" cy="824040"/>
          </a:xfrm>
          <a:prstGeom prst="rect">
            <a:avLst/>
          </a:prstGeom>
          <a:solidFill>
            <a:srgbClr val="941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ЕЛЬНЫЙ НА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2 (31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0"/>
          <p:cNvSpPr/>
          <p:nvPr/>
        </p:nvSpPr>
        <p:spPr>
          <a:xfrm>
            <a:off x="7883640" y="10843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Приоритетные статьи расходов бюджета городского округа за 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FF7B-D11F-43E0-9B38-C6FAB6009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Схема 4" descr=""/>
          <p:cNvPicPr/>
          <p:nvPr/>
        </p:nvPicPr>
        <p:blipFill>
          <a:blip r:embed="rId1"/>
          <a:stretch/>
        </p:blipFill>
        <p:spPr>
          <a:xfrm>
            <a:off x="384120" y="1974960"/>
            <a:ext cx="8375760" cy="4402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304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редняя заработная плата работников бюджетной сферы в 2012 и 2013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году (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Объект 5"/>
          <p:cNvGraphicFramePr/>
          <p:nvPr/>
        </p:nvGraphicFramePr>
        <p:xfrm>
          <a:off x="480960" y="1484280"/>
          <a:ext cx="806616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484280"/>
                    <a:ext cx="806616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1C5-BC93-44E8-B3FF-9F58F6985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1440" y="475920"/>
            <a:ext cx="87645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труктура программных и непрограммных расходов бюджета городского округа г. Переславля-Залесского за 2012 и 2013 годы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Диаграмма 4" descr=""/>
          <p:cNvPicPr/>
          <p:nvPr/>
        </p:nvPicPr>
        <p:blipFill>
          <a:blip r:embed="rId1"/>
          <a:stretch/>
        </p:blipFill>
        <p:spPr>
          <a:xfrm>
            <a:off x="417600" y="1722600"/>
            <a:ext cx="8331120" cy="4565520"/>
          </a:xfrm>
          <a:prstGeom prst="rect">
            <a:avLst/>
          </a:prstGeom>
          <a:ln w="0">
            <a:noFill/>
          </a:ln>
        </p:spPr>
      </p:pic>
      <p:sp>
        <p:nvSpPr>
          <p:cNvPr id="2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B099-0B30-4E99-BE68-1E127AD14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бюджета по действующим программам за 2013 год в разрезе источников бюджета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4006-FF1E-4E94-8D47-3474BF1C8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Диаграмма 5" descr=""/>
          <p:cNvPicPr/>
          <p:nvPr/>
        </p:nvPicPr>
        <p:blipFill>
          <a:blip r:embed="rId2"/>
          <a:stretch/>
        </p:blipFill>
        <p:spPr>
          <a:xfrm>
            <a:off x="466560" y="1989000"/>
            <a:ext cx="83250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стояние кредиторской задолженности на 01.01.2013  года и на 01.01.2014 года ( 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1AF0-38E8-4D9B-A849-53E5A8209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Диаграмма 3"/>
          <p:cNvGraphicFramePr/>
          <p:nvPr/>
        </p:nvGraphicFramePr>
        <p:xfrm>
          <a:off x="480960" y="1303200"/>
          <a:ext cx="8232840" cy="49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303200"/>
                    <a:ext cx="823284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000" y="4903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Размер дефицита, сложившийся по исполнению бюджета городского округа за 2012 и 2013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1D9D-BFB9-4264-954A-4E4EE4041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Диаграмма 3"/>
          <p:cNvGraphicFramePr/>
          <p:nvPr/>
        </p:nvGraphicFramePr>
        <p:xfrm>
          <a:off x="900000" y="1773360"/>
          <a:ext cx="728532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728532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1440" y="475920"/>
            <a:ext cx="87645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стояние муниципального долга на 01.01.2013 и на 01.01.2014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Диаграмма 4"/>
          <p:cNvGraphicFramePr/>
          <p:nvPr/>
        </p:nvGraphicFramePr>
        <p:xfrm>
          <a:off x="434880" y="1700280"/>
          <a:ext cx="8331120" cy="45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700280"/>
                    <a:ext cx="83311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62B3-E344-44E3-9BDA-844FE55AE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36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труктура бюджета городского округа г. Переславля-Залесского за 2013 год ( 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56B-831F-4EE0-A5FC-6BBD24154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Диаграмма 3"/>
          <p:cNvGraphicFramePr/>
          <p:nvPr/>
        </p:nvGraphicFramePr>
        <p:xfrm>
          <a:off x="330120" y="1409760"/>
          <a:ext cx="8531280" cy="50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409760"/>
                    <a:ext cx="853128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ПАСИБО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B82-B924-4BAC-BAFC-19A398A64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4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0"/>
          <p:cNvSpPr/>
          <p:nvPr/>
        </p:nvSpPr>
        <p:spPr>
          <a:xfrm>
            <a:off x="179280" y="1052640"/>
            <a:ext cx="8713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2680" y="39204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-36360" y="11462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доходов бюджета городского округа в 2012-2013 г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E:\work\09.10.12 143672 - Презентация МИНФИН - PPT\out\shadow-L2.png"/>
          <p:cNvPicPr/>
          <p:nvPr/>
        </p:nvPicPr>
        <p:blipFill>
          <a:blip r:embed="rId1"/>
          <a:stretch/>
        </p:blipFill>
        <p:spPr>
          <a:xfrm>
            <a:off x="6013440" y="3841920"/>
            <a:ext cx="257040" cy="26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17"/>
          <p:cNvGraphicFramePr/>
          <p:nvPr/>
        </p:nvGraphicFramePr>
        <p:xfrm>
          <a:off x="-38160" y="1790640"/>
          <a:ext cx="9153720" cy="506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1790640"/>
                    <a:ext cx="91537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Прямоугольник 10"/>
          <p:cNvSpPr/>
          <p:nvPr/>
        </p:nvSpPr>
        <p:spPr>
          <a:xfrm>
            <a:off x="28440" y="404640"/>
            <a:ext cx="889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бюджета городского окр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. Переславля-Залесского за 2013 год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8101080" y="58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3922560" y="18032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10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8"/>
          <p:cNvSpPr/>
          <p:nvPr/>
        </p:nvSpPr>
        <p:spPr>
          <a:xfrm rot="5400000">
            <a:off x="4439880" y="740880"/>
            <a:ext cx="360360" cy="65293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1920 h 6529320"/>
              <a:gd name="textAreaBottom" fmla="*/ 6377400 h 652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4"/>
                  <a:pt x="10800" y="1608"/>
                </a:cubicBezTo>
                <a:lnTo>
                  <a:pt x="10800" y="9192"/>
                </a:lnTo>
                <a:cubicBezTo>
                  <a:pt x="10800" y="9996"/>
                  <a:pt x="5400" y="10800"/>
                  <a:pt x="0" y="10800"/>
                </a:cubicBezTo>
                <a:cubicBezTo>
                  <a:pt x="5400" y="10800"/>
                  <a:pt x="10800" y="11604"/>
                  <a:pt x="10800" y="12408"/>
                </a:cubicBezTo>
                <a:lnTo>
                  <a:pt x="10800" y="19992"/>
                </a:lnTo>
                <a:cubicBezTo>
                  <a:pt x="10800" y="207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0"/>
          <p:cNvSpPr/>
          <p:nvPr/>
        </p:nvSpPr>
        <p:spPr>
          <a:xfrm rot="5400000">
            <a:off x="4427280" y="-1036800"/>
            <a:ext cx="431640" cy="66265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9480 h 6626520"/>
              <a:gd name="textAreaBottom" fmla="*/ 6467040 h 662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2"/>
                  <a:pt x="10800" y="1663"/>
                </a:cubicBezTo>
                <a:lnTo>
                  <a:pt x="10800" y="9137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2"/>
                  <a:pt x="10800" y="12463"/>
                </a:cubicBezTo>
                <a:lnTo>
                  <a:pt x="10800" y="19937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3928680" y="353232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090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07D3-9E4A-402E-A870-4BBB931D2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6" descr=""/>
          <p:cNvPicPr/>
          <p:nvPr/>
        </p:nvPicPr>
        <p:blipFill>
          <a:blip r:embed="rId4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7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600" y="512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лановое поступление финансовых средств в бюджет городского округа г. Переславля-Залесского за 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-9360" y="1685880"/>
          <a:ext cx="9153360" cy="519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685880"/>
                    <a:ext cx="91533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AutoShape 7"/>
          <p:cNvSpPr/>
          <p:nvPr/>
        </p:nvSpPr>
        <p:spPr>
          <a:xfrm rot="5400000">
            <a:off x="939960" y="1879560"/>
            <a:ext cx="358560" cy="432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9360 h 432000"/>
              <a:gd name="textAreaBottom" fmla="*/ 4226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1"/>
                  <a:pt x="10800" y="1501"/>
                </a:cubicBezTo>
                <a:lnTo>
                  <a:pt x="10800" y="9299"/>
                </a:lnTo>
                <a:cubicBezTo>
                  <a:pt x="10800" y="10050"/>
                  <a:pt x="5400" y="10800"/>
                  <a:pt x="0" y="10800"/>
                </a:cubicBezTo>
                <a:cubicBezTo>
                  <a:pt x="5400" y="10800"/>
                  <a:pt x="10800" y="11551"/>
                  <a:pt x="10800" y="12301"/>
                </a:cubicBezTo>
                <a:lnTo>
                  <a:pt x="10800" y="20099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2560" y="1601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86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 rot="5400000">
            <a:off x="2935800" y="3575520"/>
            <a:ext cx="336600" cy="347760"/>
          </a:xfrm>
          <a:custGeom>
            <a:avLst/>
            <a:gdLst>
              <a:gd name="textAreaLeft" fmla="*/ 215280 w 336600"/>
              <a:gd name="textAreaRight" fmla="*/ 336960 w 336600"/>
              <a:gd name="textAreaTop" fmla="*/ 8640 h 347760"/>
              <a:gd name="textAreaBottom" fmla="*/ 339120 h 3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1"/>
                  <a:pt x="10800" y="1742"/>
                </a:cubicBezTo>
                <a:lnTo>
                  <a:pt x="10800" y="9693"/>
                </a:lnTo>
                <a:cubicBezTo>
                  <a:pt x="10800" y="10564"/>
                  <a:pt x="5400" y="11435"/>
                  <a:pt x="0" y="11435"/>
                </a:cubicBezTo>
                <a:cubicBezTo>
                  <a:pt x="5400" y="11435"/>
                  <a:pt x="10800" y="12306"/>
                  <a:pt x="10800" y="13177"/>
                </a:cubicBezTo>
                <a:lnTo>
                  <a:pt x="10800" y="19858"/>
                </a:lnTo>
                <a:cubicBezTo>
                  <a:pt x="10800" y="207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162240" y="1916280"/>
            <a:ext cx="79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784600" y="31892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 rot="5400000">
            <a:off x="3914640" y="3935160"/>
            <a:ext cx="428760" cy="349200"/>
          </a:xfrm>
          <a:custGeom>
            <a:avLst/>
            <a:gdLst>
              <a:gd name="textAreaLeft" fmla="*/ 273960 w 428760"/>
              <a:gd name="textAreaRight" fmla="*/ 429120 w 428760"/>
              <a:gd name="textAreaTop" fmla="*/ 9000 h 349200"/>
              <a:gd name="textAreaBottom" fmla="*/ 340200 h 34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729"/>
                </a:lnTo>
                <a:cubicBezTo>
                  <a:pt x="10800" y="8629"/>
                  <a:pt x="5400" y="9529"/>
                  <a:pt x="0" y="9529"/>
                </a:cubicBezTo>
                <a:cubicBezTo>
                  <a:pt x="5400" y="9529"/>
                  <a:pt x="10800" y="10429"/>
                  <a:pt x="10800" y="113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816360" y="35258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4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 rot="5400000">
            <a:off x="5803200" y="3762360"/>
            <a:ext cx="393840" cy="431640"/>
          </a:xfrm>
          <a:custGeom>
            <a:avLst/>
            <a:gdLst>
              <a:gd name="textAreaLeft" fmla="*/ 251640 w 393840"/>
              <a:gd name="textAreaRight" fmla="*/ 394200 w 393840"/>
              <a:gd name="textAreaTop" fmla="*/ 10080 h 431640"/>
              <a:gd name="textAreaBottom" fmla="*/ 42156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2"/>
                  <a:pt x="10800" y="1644"/>
                </a:cubicBezTo>
                <a:lnTo>
                  <a:pt x="10800" y="9156"/>
                </a:lnTo>
                <a:cubicBezTo>
                  <a:pt x="10800" y="9978"/>
                  <a:pt x="5400" y="10800"/>
                  <a:pt x="0" y="10800"/>
                </a:cubicBezTo>
                <a:cubicBezTo>
                  <a:pt x="5400" y="10800"/>
                  <a:pt x="10800" y="11622"/>
                  <a:pt x="10800" y="12444"/>
                </a:cubicBezTo>
                <a:lnTo>
                  <a:pt x="10800" y="19956"/>
                </a:lnTo>
                <a:cubicBezTo>
                  <a:pt x="10800" y="207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5694480" y="34909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694836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7596360" y="1450800"/>
            <a:ext cx="11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830520" y="3809880"/>
            <a:ext cx="3934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16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1125720" y="3057480"/>
            <a:ext cx="3934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02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1830600" y="300996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7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2103480" y="276696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76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2789280" y="367812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3111840" y="3678120"/>
            <a:ext cx="393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 rot="5400000">
            <a:off x="3815280" y="4334760"/>
            <a:ext cx="393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 rot="5400000">
            <a:off x="4130640" y="4168440"/>
            <a:ext cx="393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 rot="5400000">
            <a:off x="6088680" y="4195080"/>
            <a:ext cx="393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 rot="5400000">
            <a:off x="5785560" y="4334400"/>
            <a:ext cx="393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 rot="5400000">
            <a:off x="2002680" y="1570680"/>
            <a:ext cx="287280" cy="43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1797120" y="13478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6556320" y="2262240"/>
            <a:ext cx="24480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сего финансовых средств на 01.01.13 г.:  514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сего финансовых средств на 31.12.12 г.: 742,0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бщее изменение: +227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3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424-C31A-410E-BB22-6CF3F5D3D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 rot="18970200">
            <a:off x="1414800" y="5315760"/>
            <a:ext cx="265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включая дотаци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68040" bIns="4248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намика налоговых доходов бюджета городского округа г. Переславля-Залесского за 2012–2013 годы, млн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3" descr=""/>
          <p:cNvPicPr/>
          <p:nvPr/>
        </p:nvPicPr>
        <p:blipFill>
          <a:blip r:embed="rId1"/>
          <a:stretch/>
        </p:blipFill>
        <p:spPr>
          <a:xfrm>
            <a:off x="0" y="1409760"/>
            <a:ext cx="9245520" cy="55990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/>
          <p:cNvSpPr/>
          <p:nvPr/>
        </p:nvSpPr>
        <p:spPr>
          <a:xfrm>
            <a:off x="2754360" y="1477800"/>
            <a:ext cx="1581120" cy="50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25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940360" y="1477800"/>
            <a:ext cx="158292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28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4335480" y="3860280"/>
            <a:ext cx="16048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4335480" y="3225960"/>
            <a:ext cx="1604880" cy="9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4649760" y="3800520"/>
            <a:ext cx="7905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+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4721400" y="2936880"/>
            <a:ext cx="64764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-1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4721400" y="1835280"/>
            <a:ext cx="865080" cy="3571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+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 flipH="1">
            <a:off x="4335480" y="2522520"/>
            <a:ext cx="1604880" cy="33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4697280" y="2378160"/>
            <a:ext cx="64800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-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68040" bIns="4248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намика неналоговых доходов бюджета городского округа г. Переславля-Залесского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 2012–2013 годы, млн.ру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-117360" y="-69840"/>
          <a:ext cx="9582120" cy="69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360" y="-69840"/>
                    <a:ext cx="9582120" cy="69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AutoShape 5"/>
          <p:cNvSpPr/>
          <p:nvPr/>
        </p:nvSpPr>
        <p:spPr>
          <a:xfrm>
            <a:off x="2894040" y="1754280"/>
            <a:ext cx="1440000" cy="295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468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756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600880" y="1571760"/>
            <a:ext cx="1584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468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756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9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4573440" y="1571760"/>
            <a:ext cx="790560" cy="360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69160" y="19512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492360" y="245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969160" y="2228760"/>
            <a:ext cx="4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 flipV="1">
            <a:off x="4435560" y="2742840"/>
            <a:ext cx="1177920" cy="469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 flipV="1">
            <a:off x="4435560" y="3594240"/>
            <a:ext cx="1177920" cy="411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4721400" y="34416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+2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4716360" y="25909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+1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6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32688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Структура собственных доходов бюджета городского округа г. Переславля-Залесского 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за 2013 год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7" descr=""/>
          <p:cNvPicPr/>
          <p:nvPr/>
        </p:nvPicPr>
        <p:blipFill>
          <a:blip r:embed="rId1"/>
          <a:stretch/>
        </p:blipFill>
        <p:spPr>
          <a:xfrm>
            <a:off x="4680" y="1765440"/>
            <a:ext cx="9147240" cy="51307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2D2F-7360-45EE-81F3-DDB43A217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E:\work\09.10.12 143672 - Презентация МИНФИН - PPT\out\shadow-L2.png"/>
          <p:cNvPicPr/>
          <p:nvPr/>
        </p:nvPicPr>
        <p:blipFill>
          <a:blip r:embed="rId1"/>
          <a:stretch/>
        </p:blipFill>
        <p:spPr>
          <a:xfrm>
            <a:off x="6021360" y="1000080"/>
            <a:ext cx="257040" cy="26431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0"/>
          <p:cNvSpPr/>
          <p:nvPr/>
        </p:nvSpPr>
        <p:spPr>
          <a:xfrm>
            <a:off x="179280" y="1268280"/>
            <a:ext cx="856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1042920" y="1268280"/>
            <a:ext cx="691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налога на доходы физических лиц в январе – декабре 2013 г. в сравнении с 2012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8572680" y="39204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E:\work\09.10.12 143672 - Презентация МИНФИН - PPT\out\shadow-L2.png"/>
          <p:cNvPicPr/>
          <p:nvPr/>
        </p:nvPicPr>
        <p:blipFill>
          <a:blip r:embed="rId2"/>
          <a:stretch/>
        </p:blipFill>
        <p:spPr>
          <a:xfrm>
            <a:off x="6013440" y="3841920"/>
            <a:ext cx="257040" cy="26431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0"/>
          <p:cNvSpPr/>
          <p:nvPr/>
        </p:nvSpPr>
        <p:spPr>
          <a:xfrm>
            <a:off x="196920" y="47628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лог на доходы физических лиц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8101080" y="47628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1"/>
          <p:cNvGraphicFramePr/>
          <p:nvPr/>
        </p:nvGraphicFramePr>
        <p:xfrm>
          <a:off x="0" y="2036880"/>
          <a:ext cx="9144000" cy="482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36880"/>
                    <a:ext cx="914400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80CC-83E0-42A6-80AC-8184B5DB0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6" descr=""/>
          <p:cNvPicPr/>
          <p:nvPr/>
        </p:nvPicPr>
        <p:blipFill>
          <a:blip r:embed="rId5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ЕНВД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395280" y="1052640"/>
            <a:ext cx="828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ЕНВД в разрезе видов экономической деятельности в 2013 г. в сравнении с 2012 г.,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7080" y="14716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8028000" y="404640"/>
            <a:ext cx="571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12"/>
          <p:cNvGraphicFramePr/>
          <p:nvPr/>
        </p:nvGraphicFramePr>
        <p:xfrm>
          <a:off x="0" y="1679400"/>
          <a:ext cx="9144000" cy="517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9400"/>
                    <a:ext cx="91440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B41E-C2EF-4933-B2A2-899601FE3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7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menov</dc:creator>
  <dc:description/>
  <dc:language>en-US</dc:language>
  <cp:lastModifiedBy>user</cp:lastModifiedBy>
  <cp:lastPrinted>2014-04-17T06:06:39Z</cp:lastPrinted>
  <dcterms:modified xsi:type="dcterms:W3CDTF">2014-04-22T12:16:20Z</dcterms:modified>
  <cp:revision>883</cp:revision>
  <dc:subject/>
  <dc:title>Налоговые и неналоговые доходы</dc:title>
</cp:coreProperties>
</file>